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19796-9395-42F2-AC4A-A1A05EA7C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75CC5-298F-40C1-8BE9-A0F6FA77C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411C7-F071-42EB-8FCF-435C5A58D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81A62-7276-453F-8D3A-F27D84419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87AC3-540F-4FCD-A380-3797C60A9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1D9A2-4B83-4471-901D-BF9EF5EBB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69C75-9A39-46A9-9BD4-B24B92D12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2F66B-A7D0-45D2-B08C-3C508202F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3CF55-28E5-4DDF-AC1C-CE0824E75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D94BC-0EDE-4109-B8B7-EFF392BB0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FB280-2832-4BC3-9629-3CA35F7C4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C44B4-3232-4F50-89BC-828C88056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BD2B2-F396-4BC7-9872-387141650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B83A7-EEBE-4F18-964E-6587FEDD4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6EEB9-8A79-4AAA-A7E4-4AFF11981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E350F-BC26-44AB-85B9-51D16861D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90C47-267D-446F-8CBA-243DEBDC5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47C31-76F5-4EE8-A5A8-22D3CA79C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9041D-409E-436C-8EE6-9401A9BDE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8EB3C-5B4B-4AAF-8E8D-89152A5F8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F4693-3953-4F2B-9A77-A54802283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C02AF-29BB-4914-99D6-67F93A260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4FA26-AAF5-4E5E-A394-5FB649E44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1707C-6B4D-4BC2-8B97-EC3B00928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1E1FB-9F93-40A4-B8A1-2480AEA558E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25153-54CF-46F2-AEA3-6C55E276E58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dfdef6"/>
                </a:solidFill>
                <a:latin typeface="굴림"/>
              </a:rPr>
              <a:t>캐슈도료 </a:t>
            </a:r>
            <a:r>
              <a:rPr b="0" lang="ko-KR" sz="5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장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재와 금속에 대한 부착력이 좋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차량이나 목공용 밑바탕 도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구의 도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밥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기 등의 코팅에 많이 쓰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 도막은 내용제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耐溶劑性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 커서 다른 많은 도료를 겹쳐서 사용가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격이 싸고 사용법이 간단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1" dur="5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5" dur="500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500"/>
                            </p:stCondLst>
                            <p:childTnLst>
                              <p:par>
                                <p:cTn id="2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9" dur="500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3" dur="500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500"/>
                            </p:stCondLst>
                            <p:childTnLst>
                              <p:par>
                                <p:cTn id="2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7" dur="500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" descr=""/>
          <p:cNvPicPr/>
          <p:nvPr/>
        </p:nvPicPr>
        <p:blipFill>
          <a:blip r:embed="rId1"/>
          <a:stretch/>
        </p:blipFill>
        <p:spPr>
          <a:xfrm>
            <a:off x="468360" y="1052640"/>
            <a:ext cx="8218440" cy="446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8207280" cy="453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의 특징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00%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도료 유해물질이 포함되지 않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 옻칠처럼 내후성에 약한 결점을 보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의 역겨운 냄새와 독성을 대부분 제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 시 기포가 잘 일어나지 않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79" dur="500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3" dur="500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500"/>
                            </p:stCondLst>
                            <p:childTnLst>
                              <p:par>
                                <p:cTn id="28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7" dur="500"/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91" dur="500"/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다른 도료와의 차이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이 강하고 단단하며 탄력성이 있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을 두껍게 올릴 수 있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약품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저온에 강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건조 혹은 가열건조가 가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3" dur="500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7" dur="500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500"/>
                            </p:stCondLst>
                            <p:childTnLst>
                              <p:par>
                                <p:cTn id="3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1" dur="500"/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5" dur="500"/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성능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이 강하고 단단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질기고 탄력성이 있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을 두껍게 올릴 수 있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약품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저온에 강하고 방청성능도 뛰어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 건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Baking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가 가능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27" dur="500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1" dur="500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5" dur="500"/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9" dur="500"/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500"/>
                            </p:stCondLst>
                            <p:childTnLst>
                              <p:par>
                                <p:cTn id="3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43" dur="500"/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건조구조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351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 법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공기 중에 산화중합하여 자연건조 혹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          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소부 건조한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구 분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건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소부건조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촉건조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간내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간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경화건조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5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간내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20℃/3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160℃/2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장 방법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스프레이도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5" dur="5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9" dur="500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500"/>
                            </p:stCondLst>
                            <p:childTnLst>
                              <p:par>
                                <p:cTn id="3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3" dur="500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2000"/>
                            </p:stCondLst>
                            <p:childTnLst>
                              <p:par>
                                <p:cTn id="3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7" dur="500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2500"/>
                            </p:stCondLst>
                            <p:childTnLst>
                              <p:par>
                                <p:cTn id="3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1" dur="500"/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3000"/>
                            </p:stCondLst>
                            <p:childTnLst>
                              <p:par>
                                <p:cTn id="3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5" dur="500"/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향 후 전 망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도료의 원조로써 최대기술보유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동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선박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철재 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많은 산업에 응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대수요국가이기도 한 일본을 공략 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87" dur="500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500"/>
                            </p:stCondLst>
                            <p:childTnLst>
                              <p:par>
                                <p:cTn id="38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1" dur="500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2000"/>
                            </p:stCondLst>
                            <p:childTnLst>
                              <p:par>
                                <p:cTn id="39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5" dur="500"/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8207280" cy="453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8136000" cy="475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열대성 식물인 옻나무과 캐슈의 과실 껍질에 함유되어 있는 액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(Cashew Nut Shell Liquid)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을 주원료로 한 유성도료를 말한다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천연산 옻과 비슷한 성질로 합성 칠도료라고도 한다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도료의 정의</a:t>
            </a: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" dur="500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" dur="500"/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8207280" cy="46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0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도료의 역사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939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년 일본의 캐슈회사에서 최초개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차 세계 대전으로  중단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년 전후 본격적 도료개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" dur="500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0" dur="500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4" dur="500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8" dur="500"/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나무란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?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쌍떡잎나무 무환자 나무목 옻나무과의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상록 소과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분류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옻나무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원산지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아메리카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브라질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열대지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크기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높이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0~15m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아메리카 열대지방이 원산지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자바 말레이시아등 전세계 열대지방에서 재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0" dur="5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4" dur="500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500"/>
                            </p:stCondLst>
                            <p:childTnLst>
                              <p:par>
                                <p:cTn id="6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8" dur="500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2" dur="500"/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500"/>
                            </p:stCondLst>
                            <p:childTnLst>
                              <p:par>
                                <p:cTn id="7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6" dur="500"/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3000"/>
                            </p:stCondLst>
                            <p:childTnLst>
                              <p:par>
                                <p:cTn id="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0" dur="500"/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136000" cy="4030560"/>
          </a:xfrm>
          <a:prstGeom prst="rect">
            <a:avLst/>
          </a:prstGeom>
          <a:ln w="0">
            <a:noFill/>
          </a:ln>
        </p:spPr>
      </p:pic>
      <p:sp>
        <p:nvSpPr>
          <p:cNvPr id="522" name=""/>
          <p:cNvSpPr/>
          <p:nvPr/>
        </p:nvSpPr>
        <p:spPr>
          <a:xfrm>
            <a:off x="1258920" y="69228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캐슈나무 열매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의 제조 방법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원액 → 산성백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규조토로 정제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온에서 포르말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페놀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석탄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등을 작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주성분인 카르단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카르돌과 중합되게 가공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데히드 → 점조성의 흑갈색 액체를 얻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7" dur="5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1" dur="500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5" dur="500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9" dur="500"/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3" dur="500"/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7" dur="500"/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도료의 첨가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의 성질 개선 위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  →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키드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멜라민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요소수지등을 첨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상온건조 가능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베이킹도료로도 사용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9" dur="500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3" dur="500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7" dur="500"/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도료의 단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 옻칠처럼 역시 내후성에 약한 최대결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품위나 질감 역시 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옻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에 비하여 월등히 떨어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합된 포르말린과 페놀수지의 유해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장시에 완전건조는 옻보다 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온중합시 건조시간을 단축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연장을 불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색상이 어두워 조색이 어려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시 기포 발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9" dur="5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3" dur="500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5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1" dur="500"/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500"/>
                            </p:stCondLst>
                            <p:childTnLst>
                              <p:par>
                                <p:cTn id="1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5" dur="500"/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9" dur="500"/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500"/>
                            </p:stCondLst>
                            <p:childTnLst>
                              <p:par>
                                <p:cTn id="1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3" dur="500"/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 캐슈도료란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?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천연유성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=&gt;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캐슈넛트쉘액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Dammar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Sandalac,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송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동나무기름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탈수한파마기름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잇꽃기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옻을 고온에서 중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성도료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=&gt;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렌지 오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박하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발삼오일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5" dur="50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9" dur="500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3" dur="500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7" dur="500"/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500"/>
                            </p:stCondLst>
                            <p:childTnLst>
                              <p:par>
                                <p:cTn id="2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1" dur="500"/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3000"/>
                            </p:stCondLst>
                            <p:childTnLst>
                              <p:par>
                                <p:cTn id="2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5" dur="500"/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35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09:24:20Z</dcterms:created>
  <dc:creator>staff</dc:creator>
  <dc:description/>
  <dc:language>en-US</dc:language>
  <cp:lastModifiedBy>Daniel Yang</cp:lastModifiedBy>
  <dcterms:modified xsi:type="dcterms:W3CDTF">2009-09-13T09:10:03Z</dcterms:modified>
  <cp:revision>29</cp:revision>
  <dc:subject/>
  <dc:title>천연 캐슈 도료</dc:title>
</cp:coreProperties>
</file>