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F07BB-C311-4469-A83E-6BCA7B33C82D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145EC-5A81-480F-BA5C-D19BAA7D435D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9058-3B25-4DF5-9E74-B806D4614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E02E-52C0-441E-9DAE-617471698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D3AA-73A2-4E07-9CB3-6D0546638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D1D7-898B-4867-84CD-3535344A6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0CD4-FD82-41ED-9C5A-29CC85053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72BE-84D6-4F53-B5D4-B82BC2FE7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200D-2DB8-4436-B9EA-3FFBCCC5C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559D-1A4C-4078-891A-B616DB910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AFC6-E1FC-4012-8052-04419597C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4CEF-1057-4CCC-8D65-AFCC42726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5475-AD72-4EF9-85E0-8D433746E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87BD-CB6F-4845-BB55-A33615D0B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2AB01-2D41-459A-8FAE-A59C38658CAC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남대학교의료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해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승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9.01.28 ~ 2.20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2" name="Picture 5" descr="map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반 버스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-1, 410, 410-1, 405, 452, 503, 604, 805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달서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 65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영대병원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구광역시 남구 대명동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17-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연락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53-623-8001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넥타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검정색 종류의 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히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격주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,0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재활치료 분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FES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7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&amp; topic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있을수도 없을수도 있으며 일정에 따라 달라진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보통 짧으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길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정도 소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시로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일지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art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별로 틀리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마지막주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안할 수 도 있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54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 외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6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위주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NF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흡운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bobath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-284400">
              <a:lnSpc>
                <a:spcPct val="2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modality, manua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환자 우선으로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4572000" y="1447920"/>
            <a:ext cx="347652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FES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FES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치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스트레칭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ROM, FES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종합병원급의 시스템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참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낙후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 시간 때 쉴 공간이 없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에는 밥이 맛없었다고 하나 그냥 그럭저럭 먹을만 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 말고는 계속 서 있어야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분야로 나뉘어 있어서 모든 분야를 경험 할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대병원으로 오세용 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ㅁ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44Z</dcterms:modified>
  <cp:revision>11</cp:revision>
  <dc:subject/>
  <dc:title>영남대학교의료원</dc:title>
</cp:coreProperties>
</file>