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4DC9-42A5-4776-8BBF-448808D3A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98E8-BC72-4C02-BA7D-798132A2B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2C81-7D9D-42E1-9E36-2C56EBDE8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0974-9430-44BD-9B66-C56D32534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A758A-D761-4E93-81C2-26365765C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70C02-ACE8-4458-95B4-93B95F9E5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55C33-6B82-4CB7-BFD2-445647E69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C9CE6-CB19-4A86-AA07-066DC2DA4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851B5-1CCE-40B0-97A5-D04079BCA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6FFED-D399-47AC-960B-0125782EA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28AE8-D5CD-4943-8671-4EB78AC77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E768-3565-43EE-9156-FD7AFF98B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14C5F-0DCF-4121-B942-B513FCC45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6F2E8-C5F3-4BEB-97E1-32733C0E4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6320B-8AF0-4CDB-8BDF-DCEC7D556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6A31B-C9F2-421A-A160-43F5A900A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5BE38-2D0B-4267-BEB5-675CF7DF4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3BA2-C837-4454-BF07-8EC3E6C27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6BB9-81BA-4531-8DED-857995CE9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9F1A-4A60-4514-BF32-36DBF2E6B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2EF1-C515-4629-8FAF-4300629DD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6A8F-46A4-4404-A718-460095502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1816-C0BB-4B5D-88E4-DCAC244C7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932C-4445-49DD-BE0C-DAB8AD2A8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CC54C-9B4A-4631-9DFF-E658A74694D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DE384-FC3D-451C-881A-0CE20A50AC9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제 </a:t>
            </a: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12</a:t>
            </a: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장 중도 중복장애아 교육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도 중복장애아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에 제시 없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업재활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증장애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중 근로능력이 현저하게 상실된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사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신장애의 정도가 무겁고 또한 장애가 두 가지 혹은 그 이상 중복해 있는 경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중도 중복장애의 정의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미국의 중증장애인협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통합된 지역사회에 참여하고 장애와 관계없이 모든 시민들이 누릴 수 있는 질적인 삶을 즐기기 위한 한 가지 이상의 주요 활동에 있어서 확장적이고 지속적인 지원을 필요로 하는 개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정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 정도가 심하거나 두 가지 이상 중복된 경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IQ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와 적응행동에 현저한 결함이 있어 학습에 확장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속적 지원을 필요로 하는 아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본인과 가족에게 거부감을 줄 수 있음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학습지도 방법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팀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간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과제분석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개별 및 그룹 지도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매체 활용과 재활공학 기구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의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합환경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평가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유의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 조건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의 순서 파악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한 변화에 대처하는 미시적 관점의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밀한 관찰과 기록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다면적이고 종합적인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문제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연구보다는 교사의 관찰과 노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장애의 유형과 정도 다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수준의 복잡성과 다양성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록에 의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 발달의 평가 한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차후 교육을 위한 평가로 활용되어야 함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질문을 위한 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초의 인내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619280" y="1700280"/>
            <a:ext cx="590544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1:32:17Z</dcterms:created>
  <dc:creator>.</dc:creator>
  <dc:description/>
  <dc:language>en-US</dc:language>
  <cp:lastModifiedBy>f</cp:lastModifiedBy>
  <dcterms:modified xsi:type="dcterms:W3CDTF">2007-05-17T01:49:17Z</dcterms:modified>
  <cp:revision>7</cp:revision>
  <dc:subject/>
  <dc:title>제 12장 개별 사정과 교육계획</dc:title>
</cp:coreProperties>
</file>