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CF530-9AC0-4413-80A4-6F1472B0C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CFBF4-6820-4DD8-BDE3-1CF83D296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7BE8F-B95F-4811-8E7C-D27103F93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BD27A-0F2B-41E7-B184-CBDEF37CE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7F4B0-E4E9-4C53-A65C-A859EC9EF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77B5B-DF8D-44CD-AAB0-9670F9FA1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6F7CE-BDA7-4C66-9167-BC7F9C041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72250-3758-46CA-A32B-528DF6746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7E595-4572-4EC0-B6CF-A966C6495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2D785-FE57-4051-A1D2-42A11DF1B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CA959-C73D-42EE-BF71-70E52B31B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7E5BD-3E57-4D09-9CAF-868693F85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52D2C-A151-4C0F-B65B-2B6C2765D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0544F-42BF-4490-A433-8CE7674DF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13A19-1E66-49BC-932C-87AC6E9E7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21680-3226-4BCE-AC1D-7AFD456F6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C11E8-AD3F-4406-BB53-1C8F45D31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592D5-FA8F-46D2-B64F-5EB49AD69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2BB2E-F282-42DB-B3AB-933971E54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F9A67-34B0-47B6-9A3D-B21818F0E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6B9C8-D923-4096-AA2E-F6366512F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40181-3875-42CC-924B-9BB60C483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13CDE-44A1-4940-9F0A-0616FF445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A3366-F348-46B5-A387-1E92567D8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5DA53-7840-4558-A3D8-1620E1AC49A9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50351-A5DE-4850-9215-3F25210D3CB5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2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직의 성격과 </a:t>
            </a:r>
            <a:br>
              <a:rPr sz="5400"/>
            </a:b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          교사의 역할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교에서의 비형식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형식적인 구조에서 허용되지 않는 방식으로 자신을 표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형식적 구조를 통해 형식적 임무수행이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형식적 구조를 통해 공식적인 조직의 목적이나 절차가 수정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의 소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취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신 등의 비형식적 구조가 형식적 구조에 영향을 미침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부수적인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르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촉진자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는 촉진자가 되어야 한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급에서의 교사의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형식화된 지식 전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식적인 교사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회화 중재 역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내면화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을 위한 올바른 평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아실현과 동기부여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역할극이 마감되는 것을 인지하는 교사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자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품과 전문성 겸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이상적인 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언적 접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천적 접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한국교육개발원의 연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나오는 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대정신에 따라 교육내용과 방법이 달라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자질도 달라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그러나 봉사와 사명감은 존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성에 기초한 학생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중심의 교직의 실행력은 곧 바람직한 교사의 자질로 재현될 것이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람이 그리운 사회에서 사람만이 희망이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이란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?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와 교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의사와 의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죄인과 인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특징과 중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을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의 정신생활을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성숙자를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봉사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가와 민족에 영향을 미치는 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진보에 중요한 역할을 담당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7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향상을 도모하기 유리한 직업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을 보는 관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노동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공 봉사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전문성과 자율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전문성과 자율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율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본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에서의 직업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에서의 비형식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부수적인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급에서의 교사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기본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지식과 기술을 전달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회화 과정을 조력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평가의 주체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별평가와 성취평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교에서의 직업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피고용인의 역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경영에서의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장과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부모와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가의 역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다면적인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족관계의 역할을 모두 수행하는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관찰력이 분명하고 정확한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7T01:34:59Z</dcterms:created>
  <dc:creator>XPuser</dc:creator>
  <dc:description/>
  <dc:language>en-US</dc:language>
  <cp:lastModifiedBy>XPuser</cp:lastModifiedBy>
  <dcterms:modified xsi:type="dcterms:W3CDTF">2008-09-17T02:16:16Z</dcterms:modified>
  <cp:revision>6</cp:revision>
  <dc:subject/>
  <dc:title>제 2장 교직의 성격과            교사의 역할</dc:title>
</cp:coreProperties>
</file>