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327FA-87F0-4C9A-8157-3655F466D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7A64B-5269-48F4-AA96-C3DBE437F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EC092-A3C5-4C76-B386-F37AE686B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0D027-A143-484B-9DF2-C28D9EF6D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63C27-7057-43F4-9E29-FE868E173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20BDC-1AD6-473D-879A-2FB4A0609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1FA25-0F3F-43AE-9881-39A852209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99632-D85F-4D23-B9B2-A09C8FBB1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AD4C1-80AD-4AAC-BC00-FD9653771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19BD6-62BA-4D55-AE76-B3E1F3D92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0E725-559B-4A9D-9FF1-6E6875857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D337E-9317-42DB-889C-0C31F243A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2D2C3-0BC4-4F26-A945-E3E5B390B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C1615-C22C-416C-9563-BCD983823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82D5F-B241-43B1-9ADE-BF73A9E2B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0A9BA-A9B7-45AF-A94C-BB7388DB9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3072C-CE53-4A00-A1F0-40335AF1F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7E66A-0F6F-4E6D-A5E8-F023FBA70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A7C1F-A4A7-44DA-8A1E-75D2A3629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30CC7-98D7-4F98-8110-342235A1F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07863-B543-43A2-8C9C-F52A8397C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0A707-53DF-46C7-9F70-6FDBBE0ED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32854-3AA4-4533-ADEB-F43C84D61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A9794-8E3D-4C59-9DC9-412F50A0A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7B927-BE62-499B-9012-DB4A8B539A7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E5E7C-BA1C-40D7-A3AA-8BF69EC4E3E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굴림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330066"/>
                </a:solidFill>
                <a:latin typeface="굴림"/>
              </a:rPr>
              <a:t>동산 의료원</a:t>
            </a:r>
            <a:endParaRPr b="1" lang="en-US" sz="7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굴림"/>
              </a:rPr>
              <a:t>06’ </a:t>
            </a:r>
            <a:r>
              <a:rPr b="1" lang="zh-CN" sz="3200" spc="-1" strike="noStrike">
                <a:solidFill>
                  <a:srgbClr val="000000"/>
                </a:solidFill>
                <a:latin typeface="굴림"/>
              </a:rPr>
              <a:t>김예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009.2.2~2009.2.20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위치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대구광역시 중구 동산동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194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     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물리치료실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- 2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지하철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호선 서문시장역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번 출구 서문시장방향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도보로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분 거리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"/>
          <p:cNvSpPr/>
          <p:nvPr/>
        </p:nvSpPr>
        <p:spPr>
          <a:xfrm>
            <a:off x="826920" y="2997360"/>
            <a:ext cx="360360" cy="215640"/>
          </a:xfrm>
          <a:prstGeom prst="rightArrow">
            <a:avLst>
              <a:gd name="adj1" fmla="val 50000"/>
              <a:gd name="adj2" fmla="val 4177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물리치료실 환경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작고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시설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도구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이 오래됨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치료사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명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평균연령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30~40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대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4:4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정형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3)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신경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3)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소아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로 구성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복장 자유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가운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면바지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흰 셔츠나 흰 티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명찰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머리는 단정히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병원 생활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6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출근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40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늦어도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까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식사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~ 1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식권 한 장에 천원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퇴근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(4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에 도서관 보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토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일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공휴일 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200" spc="-1" strike="noStrike">
                <a:solidFill>
                  <a:srgbClr val="330066"/>
                </a:solidFill>
                <a:latin typeface="굴림"/>
              </a:rPr>
              <a:t>병원 생활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A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조와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B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조 나누어 오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오후로 도서관에서 개인시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공부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과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가짐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질문 거의 없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그냥 치료 하는 것 보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뒷정리하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시키는 일 하면 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주일마다 환자 정해서 차트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개 작성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국내논문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6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개 요약 발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치료사의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lecture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없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금요일 아침에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Conference(8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20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분까지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330066"/>
                </a:solidFill>
                <a:latin typeface="굴림"/>
              </a:rPr>
              <a:t>감사합니다</a:t>
            </a:r>
            <a:r>
              <a:rPr b="0" lang="en-US" sz="7200" spc="-1" strike="noStrike">
                <a:solidFill>
                  <a:srgbClr val="330066"/>
                </a:solidFill>
                <a:latin typeface="굴림"/>
              </a:rPr>
              <a:t>.</a:t>
            </a:r>
            <a:endParaRPr b="1" lang="en-US" sz="7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0:13:27Z</dcterms:created>
  <dc:creator>g]</dc:creator>
  <dc:description/>
  <dc:language>en-US</dc:language>
  <cp:lastModifiedBy>경상대 컴퓨터실 프린터</cp:lastModifiedBy>
  <dcterms:modified xsi:type="dcterms:W3CDTF">2009-04-09T03:28:07Z</dcterms:modified>
  <cp:revision>19</cp:revision>
  <dc:subject/>
  <dc:title>Welcome to 꿈동산</dc:title>
</cp:coreProperties>
</file>